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jpeg" ContentType="image/jpeg"/>
  <Override PartName="/ppt/media/image7.png" ContentType="image/png"/>
  <Override PartName="/ppt/media/image8.jpeg" ContentType="image/jpe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1989000"/>
            <a:ext cx="7200720" cy="109872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Arial"/>
              </a:rPr>
              <a:t>Progetto Finale</a:t>
            </a:r>
            <a:endParaRPr b="1" lang="en-US" sz="3200" spc="-1" strike="noStrike">
              <a:solidFill>
                <a:srgbClr val="ffcc99"/>
              </a:solidFill>
              <a:latin typeface="Arial Unicode MS"/>
            </a:endParaRPr>
          </a:p>
        </p:txBody>
      </p:sp>
      <p:sp>
        <p:nvSpPr>
          <p:cNvPr id="86" name="Rectangle 4"/>
          <p:cNvSpPr/>
          <p:nvPr/>
        </p:nvSpPr>
        <p:spPr>
          <a:xfrm>
            <a:off x="542880" y="3300480"/>
            <a:ext cx="7848720" cy="23637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97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ffffcc"/>
                </a:solidFill>
                <a:latin typeface="Arial"/>
                <a:ea typeface="ＭＳ Ｐゴシック"/>
              </a:rPr>
              <a:t>Laboratorio di Progettazione Web</a:t>
            </a:r>
            <a:r>
              <a:rPr b="0" i="1" lang="en-GB" sz="1800" spc="-1" strike="noStrike">
                <a:solidFill>
                  <a:srgbClr val="ffffff"/>
                </a:solidFill>
                <a:latin typeface="Arial"/>
                <a:ea typeface="ＭＳ Ｐゴシック"/>
              </a:rPr>
              <a:t> </a:t>
            </a:r>
            <a:endParaRPr b="0" lang="en-US" sz="1800" spc="-1" strike="noStrike">
              <a:solidFill>
                <a:srgbClr val="ffffff"/>
              </a:solidFill>
              <a:latin typeface="Times New Roman"/>
            </a:endParaRPr>
          </a:p>
          <a:p>
            <a:pPr lvl="1" marL="457200" algn="ctr">
              <a:lnSpc>
                <a:spcPct val="97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ea typeface="ＭＳ Ｐゴシック"/>
              </a:rPr>
              <a:t>AA 2009/2010</a:t>
            </a:r>
            <a:endParaRPr b="0" lang="en-US" sz="1800" spc="-1" strike="noStrike">
              <a:solidFill>
                <a:srgbClr val="ffffff"/>
              </a:solidFill>
              <a:latin typeface="Times New Roman"/>
            </a:endParaRPr>
          </a:p>
          <a:p>
            <a:pPr lvl="1" marL="457200" algn="ctr">
              <a:lnSpc>
                <a:spcPct val="97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ea typeface="ＭＳ Ｐゴシック"/>
              </a:rPr>
              <a:t>Chiara Renso</a:t>
            </a:r>
            <a:endParaRPr b="0" lang="en-US" sz="1800" spc="-1" strike="noStrike">
              <a:solidFill>
                <a:srgbClr val="ffffff"/>
              </a:solidFill>
              <a:latin typeface="Times New Roman"/>
            </a:endParaRPr>
          </a:p>
          <a:p>
            <a:pPr lvl="1" marL="457200" algn="ctr">
              <a:lnSpc>
                <a:spcPct val="80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ea typeface="ＭＳ Ｐゴシック"/>
              </a:rPr>
              <a:t>ISTI- CNR - c.renso@isti.cnr.it</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360"/>
            <a:ext cx="7920000" cy="11826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Parte Opzionale</a:t>
            </a:r>
            <a:br>
              <a:rPr sz="3200"/>
            </a:br>
            <a:endParaRPr b="1" lang="en-US" sz="3200" spc="-1" strike="noStrike">
              <a:solidFill>
                <a:srgbClr val="ffcc99"/>
              </a:solidFill>
              <a:latin typeface="Arial Unicode MS"/>
            </a:endParaRPr>
          </a:p>
        </p:txBody>
      </p:sp>
      <p:sp>
        <p:nvSpPr>
          <p:cNvPr id="112" name=""/>
          <p:cNvSpPr txBox="1"/>
          <p:nvPr/>
        </p:nvSpPr>
        <p:spPr>
          <a:xfrm>
            <a:off x="611280" y="834840"/>
            <a:ext cx="8532720" cy="581652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cc0000"/>
                </a:solidFill>
                <a:latin typeface="Arial"/>
              </a:rPr>
              <a:t>La parte opzionale e’ obbligatoria quando il gruppo e’ costituito da due persone.</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1) organizzare una sistema di votazione per le opere pubblicate. Ogni opera potra’ essere votata dagli utenti registrati e per i quali l’opera e’ visibile. Un autore non puo’ votare la propria opera e non puo’ votare due volte la stessa opera;</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2) organizzare un sistema di classifiche mensili e una classifica globale. Ogni mese ci sara’ un’opera vincitrice come quella che ha ottenuto il miglior punteggio. Al termine del mese la classifica mensile verra’ azzerata, ma se ne terra’ traccia per la classifica globale. La classifica globale riassumera’ le migliori opere dei mesi passati.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96880" y="-252360"/>
            <a:ext cx="7920000" cy="9158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Precisazioni</a:t>
            </a:r>
            <a:endParaRPr b="1" lang="en-US" sz="3200" spc="-1" strike="noStrike">
              <a:solidFill>
                <a:srgbClr val="ffcc99"/>
              </a:solidFill>
              <a:latin typeface="Arial Unicode MS"/>
            </a:endParaRPr>
          </a:p>
        </p:txBody>
      </p:sp>
      <p:sp>
        <p:nvSpPr>
          <p:cNvPr id="114" name=""/>
          <p:cNvSpPr txBox="1"/>
          <p:nvPr/>
        </p:nvSpPr>
        <p:spPr>
          <a:xfrm>
            <a:off x="317520" y="677520"/>
            <a:ext cx="8826480" cy="57610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l progetto dovra’ essere completo di tutte le funzionalita’ richieste e funzionante.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Ogni form di inserimento dovra’ avere indicazione dei campi obbligatori e il relativo controlli.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 </a:t>
            </a:r>
            <a:r>
              <a:rPr b="1" lang="it-IT" sz="2200" spc="-1" strike="noStrike">
                <a:solidFill>
                  <a:srgbClr val="ffffff"/>
                </a:solidFill>
                <a:latin typeface="Arial"/>
              </a:rPr>
              <a:t>Il layout e la grafica dovranno essere adeguati al sito e completi.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l Back End non deve essere trascurato!</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La struttura della base di dati deve essere adeguata all’applicazione (tabelle, campi, tipo di campi, lunghezza etc).</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Tutto quanto non e’ esplicitamente specificato e’ a scelta vostra</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n sede di esame dovrete giustificare tutte le scelte fatte. </a:t>
            </a:r>
            <a:endParaRPr b="1" lang="en-US" sz="2200" spc="-1" strike="noStrike">
              <a:solidFill>
                <a:srgbClr val="ffffff"/>
              </a:solidFill>
              <a:latin typeface="Arial"/>
            </a:endParaRPr>
          </a:p>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367920"/>
            <a:ext cx="7920000" cy="4827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Il progetto 2010</a:t>
            </a:r>
            <a:endParaRPr b="1" lang="en-US" sz="3200" spc="-1" strike="noStrike">
              <a:solidFill>
                <a:srgbClr val="ffcc99"/>
              </a:solidFill>
              <a:latin typeface="Arial Unicode MS"/>
            </a:endParaRPr>
          </a:p>
        </p:txBody>
      </p:sp>
      <p:sp>
        <p:nvSpPr>
          <p:cNvPr id="88" name="PlaceHolder 2"/>
          <p:cNvSpPr>
            <a:spLocks noGrp="1"/>
          </p:cNvSpPr>
          <p:nvPr>
            <p:ph/>
          </p:nvPr>
        </p:nvSpPr>
        <p:spPr>
          <a:xfrm>
            <a:off x="3304800" y="1037880"/>
            <a:ext cx="5838840" cy="528156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Progettazione e realizzazione di una rete sociale per una comunita’ di autori.</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l progetto consiste nella progettazione e implementazione in PHP di una applicazione web che realizzi una rete sociale per una comunita’ di autori di una determinata tematica a scelta (ad esempio la natura, i fumetti,  gli animali, i libri, etc….).</a:t>
            </a:r>
            <a:endParaRPr b="1" lang="en-US" sz="2200" spc="-1" strike="noStrike">
              <a:solidFill>
                <a:srgbClr val="ffffff"/>
              </a:solidFill>
              <a:latin typeface="Arial"/>
            </a:endParaRPr>
          </a:p>
        </p:txBody>
      </p:sp>
      <p:pic>
        <p:nvPicPr>
          <p:cNvPr id="89" name="Picture 3" descr=""/>
          <p:cNvPicPr/>
          <p:nvPr/>
        </p:nvPicPr>
        <p:blipFill>
          <a:blip r:embed="rId1"/>
          <a:stretch/>
        </p:blipFill>
        <p:spPr>
          <a:xfrm>
            <a:off x="379440" y="1386000"/>
            <a:ext cx="2457360" cy="24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68280"/>
            <a:ext cx="7920000" cy="5414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Front End </a:t>
            </a:r>
            <a:endParaRPr b="1" lang="en-US" sz="3200" spc="-1" strike="noStrike">
              <a:solidFill>
                <a:srgbClr val="ffcc99"/>
              </a:solidFill>
              <a:latin typeface="Arial Unicode MS"/>
            </a:endParaRPr>
          </a:p>
        </p:txBody>
      </p:sp>
      <p:sp>
        <p:nvSpPr>
          <p:cNvPr id="91" name="TextBox 5"/>
          <p:cNvSpPr/>
          <p:nvPr/>
        </p:nvSpPr>
        <p:spPr>
          <a:xfrm>
            <a:off x="519120" y="1227240"/>
            <a:ext cx="8342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 front end e’ la parte di applicazione web visibile al pubblico di utenti, registrati al sito oppure n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 front end avra’ due parti, una parte visibile a tutti gli utenti a una parte visibile solo ad utenti registrati che abbiano fatto login</a:t>
            </a:r>
            <a:endParaRPr b="0" lang="en-US" sz="2400" spc="-1" strike="noStrike">
              <a:solidFill>
                <a:srgbClr val="ffffff"/>
              </a:solidFill>
              <a:latin typeface="Times New Roman"/>
            </a:endParaRPr>
          </a:p>
        </p:txBody>
      </p:sp>
      <p:pic>
        <p:nvPicPr>
          <p:cNvPr id="92" name="Picture 6" descr=""/>
          <p:cNvPicPr/>
          <p:nvPr/>
        </p:nvPicPr>
        <p:blipFill>
          <a:blip r:embed="rId1"/>
          <a:stretch/>
        </p:blipFill>
        <p:spPr>
          <a:xfrm>
            <a:off x="5137200" y="3314880"/>
            <a:ext cx="2073240" cy="268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68440" y="260280"/>
            <a:ext cx="7920000" cy="5652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Le Opere</a:t>
            </a:r>
            <a:endParaRPr b="1" lang="en-US" sz="3200" spc="-1" strike="noStrike">
              <a:solidFill>
                <a:srgbClr val="ffcc99"/>
              </a:solidFill>
              <a:latin typeface="Arial Unicode MS"/>
            </a:endParaRPr>
          </a:p>
        </p:txBody>
      </p:sp>
      <p:sp>
        <p:nvSpPr>
          <p:cNvPr id="94" name=""/>
          <p:cNvSpPr txBox="1"/>
          <p:nvPr/>
        </p:nvSpPr>
        <p:spPr>
          <a:xfrm>
            <a:off x="279360" y="792000"/>
            <a:ext cx="8864640" cy="606600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Il contenuto del sito sono le opere degli utenti. Le opere possono essere foto, video, racconti, libri, dipinti, etc.</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Ogni opera dovra’ avere almeno le seguenti informazioni:</a:t>
            </a:r>
            <a:endParaRPr b="1" lang="en-US" sz="22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 </a:t>
            </a:r>
            <a:r>
              <a:rPr b="0" lang="it-IT" sz="2000" spc="-1" strike="noStrike">
                <a:solidFill>
                  <a:srgbClr val="ffffff"/>
                </a:solidFill>
                <a:latin typeface="Arial"/>
              </a:rPr>
              <a:t>un titolo, </a:t>
            </a:r>
            <a:endParaRPr b="0" lang="en-US" sz="20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una descrizione,</a:t>
            </a:r>
            <a:endParaRPr b="0" lang="en-US" sz="20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almeno tre </a:t>
            </a:r>
            <a:r>
              <a:rPr b="0" i="1" lang="it-IT" sz="2000" spc="-1" strike="noStrike">
                <a:solidFill>
                  <a:srgbClr val="ffffff"/>
                </a:solidFill>
                <a:latin typeface="Arial"/>
              </a:rPr>
              <a:t>tags</a:t>
            </a:r>
            <a:r>
              <a:rPr b="0" lang="it-IT" sz="2000" spc="-1" strike="noStrike">
                <a:solidFill>
                  <a:srgbClr val="ffffff"/>
                </a:solidFill>
                <a:latin typeface="Arial"/>
              </a:rPr>
              <a:t>, </a:t>
            </a:r>
            <a:endParaRPr b="0" lang="en-US" sz="20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indicazione dell’autore dell’opera, </a:t>
            </a:r>
            <a:endParaRPr b="0" lang="en-US" sz="20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una foto, </a:t>
            </a:r>
            <a:endParaRPr b="0" lang="en-US" sz="20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una data di inserimento, </a:t>
            </a:r>
            <a:endParaRPr b="0" lang="en-US" sz="20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una categoria (foto, racconto, video, dipinto, etc). </a:t>
            </a:r>
            <a:endParaRPr b="0" lang="en-US" sz="20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Un utente può pubblicare anche più di un’opera. Le opere sono inserite dagli utenti registrati, devono essere approvate dall’amministratore e possono essere pubblicate in due modalita’: visibile a tutti o visibile solo agli amic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pic>
        <p:nvPicPr>
          <p:cNvPr id="95" name="Picture 3" descr=""/>
          <p:cNvPicPr/>
          <p:nvPr/>
        </p:nvPicPr>
        <p:blipFill>
          <a:blip r:embed="rId1"/>
          <a:stretch/>
        </p:blipFill>
        <p:spPr>
          <a:xfrm>
            <a:off x="5583240" y="2475000"/>
            <a:ext cx="1816200" cy="135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7920"/>
            <a:ext cx="7920000" cy="7570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Gli Utenti</a:t>
            </a:r>
            <a:endParaRPr b="1" lang="en-US" sz="3200" spc="-1" strike="noStrike">
              <a:solidFill>
                <a:srgbClr val="ffcc99"/>
              </a:solidFill>
              <a:latin typeface="Arial Unicode MS"/>
            </a:endParaRPr>
          </a:p>
        </p:txBody>
      </p:sp>
      <p:sp>
        <p:nvSpPr>
          <p:cNvPr id="97" name=""/>
          <p:cNvSpPr txBox="1"/>
          <p:nvPr/>
        </p:nvSpPr>
        <p:spPr>
          <a:xfrm>
            <a:off x="222120" y="1441080"/>
            <a:ext cx="6343920" cy="449892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Naturalmente il sito permetterà la registrazione libera degli utenti dove verranno chieste almeno le seguenti informazioni: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un nome, cognome, data e luogo di nascita, indirizzo, email, telefono, interessi. Gli interessi possono essere piu’ di uno.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Dovra’ essere previsto un utente speciale “amministratore”che avra’ accesso al back end del sito</a:t>
            </a:r>
            <a:endParaRPr b="1" lang="en-US" sz="2200" spc="-1" strike="noStrike">
              <a:solidFill>
                <a:srgbClr val="ffffff"/>
              </a:solidFill>
              <a:latin typeface="Arial"/>
            </a:endParaRPr>
          </a:p>
        </p:txBody>
      </p:sp>
      <p:pic>
        <p:nvPicPr>
          <p:cNvPr id="98" name="Picture 3" descr=""/>
          <p:cNvPicPr/>
          <p:nvPr/>
        </p:nvPicPr>
        <p:blipFill>
          <a:blip r:embed="rId1"/>
          <a:stretch/>
        </p:blipFill>
        <p:spPr>
          <a:xfrm>
            <a:off x="6310440" y="374760"/>
            <a:ext cx="2473200" cy="247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368280"/>
            <a:ext cx="7920000" cy="8445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Amicizia</a:t>
            </a:r>
            <a:endParaRPr b="1" lang="en-US" sz="3200" spc="-1" strike="noStrike">
              <a:solidFill>
                <a:srgbClr val="ffcc99"/>
              </a:solidFill>
              <a:latin typeface="Arial Unicode MS"/>
            </a:endParaRPr>
          </a:p>
        </p:txBody>
      </p:sp>
      <p:sp>
        <p:nvSpPr>
          <p:cNvPr id="100"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Inoltre il sito crea una comunita’ di utenti che possono interagire tramite il legame di amicizia</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Un utente puo’ richiedere amicizia ad un altro utente che puo’ accettare o rifiutar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pic>
        <p:nvPicPr>
          <p:cNvPr id="101" name="Picture 3" descr=""/>
          <p:cNvPicPr/>
          <p:nvPr/>
        </p:nvPicPr>
        <p:blipFill>
          <a:blip r:embed="rId1"/>
          <a:stretch/>
        </p:blipFill>
        <p:spPr>
          <a:xfrm>
            <a:off x="3122640" y="3884760"/>
            <a:ext cx="258120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96880" y="-360"/>
            <a:ext cx="7920000" cy="10033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Utenti non registrati</a:t>
            </a:r>
            <a:endParaRPr b="1" lang="en-US" sz="3200" spc="-1" strike="noStrike">
              <a:solidFill>
                <a:srgbClr val="ffcc99"/>
              </a:solidFill>
              <a:latin typeface="Arial Unicode MS"/>
            </a:endParaRPr>
          </a:p>
        </p:txBody>
      </p:sp>
      <p:sp>
        <p:nvSpPr>
          <p:cNvPr id="103" name="Rectangle 3"/>
          <p:cNvSpPr/>
          <p:nvPr/>
        </p:nvSpPr>
        <p:spPr>
          <a:xfrm>
            <a:off x="880920" y="1273320"/>
            <a:ext cx="7864560" cy="1266840"/>
          </a:xfrm>
          <a:prstGeom prst="rect">
            <a:avLst/>
          </a:prstGeom>
          <a:noFill/>
          <a:ln w="0">
            <a:noFill/>
          </a:ln>
        </p:spPr>
        <p:style>
          <a:lnRef idx="0"/>
          <a:fillRef idx="0"/>
          <a:effectRef idx="0"/>
          <a:fontRef idx="minor"/>
        </p:style>
        <p:txBody>
          <a:bodyPr lIns="90000" rIns="90000" tIns="46800" bIns="46800" anchor="t">
            <a:noAutofit/>
          </a:bodyPr>
          <a:p>
            <a:pPr marL="417600" indent="-41760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ea typeface="ＭＳ Ｐゴシック"/>
              </a:rPr>
              <a:t>Un generico utente </a:t>
            </a:r>
            <a:r>
              <a:rPr b="1" lang="en-US" sz="2200" spc="-1" strike="noStrike">
                <a:solidFill>
                  <a:srgbClr val="cc0000"/>
                </a:solidFill>
                <a:latin typeface="Arial"/>
                <a:ea typeface="ＭＳ Ｐゴシック"/>
              </a:rPr>
              <a:t>non registrato </a:t>
            </a:r>
            <a:r>
              <a:rPr b="1" lang="en-US" sz="2200" spc="-1" strike="noStrike">
                <a:solidFill>
                  <a:srgbClr val="ffffff"/>
                </a:solidFill>
                <a:latin typeface="Arial"/>
                <a:ea typeface="ＭＳ Ｐゴシック"/>
              </a:rPr>
              <a:t>può visitare il sito ed eseguire delle funzionalità di ricerca sulle opere inserite nel sito e visibili al pubblico generale.</a:t>
            </a:r>
            <a:endParaRPr b="0" lang="en-US" sz="2200" spc="-1" strike="noStrike">
              <a:solidFill>
                <a:srgbClr val="ffffff"/>
              </a:solidFill>
              <a:latin typeface="Times New Roman"/>
            </a:endParaRPr>
          </a:p>
        </p:txBody>
      </p:sp>
      <p:pic>
        <p:nvPicPr>
          <p:cNvPr id="104" name="Picture 5" descr=""/>
          <p:cNvPicPr/>
          <p:nvPr/>
        </p:nvPicPr>
        <p:blipFill>
          <a:blip r:embed="rId1"/>
          <a:stretch/>
        </p:blipFill>
        <p:spPr>
          <a:xfrm>
            <a:off x="420840" y="2741760"/>
            <a:ext cx="2863800" cy="2863800"/>
          </a:xfrm>
          <a:prstGeom prst="rect">
            <a:avLst/>
          </a:prstGeom>
          <a:ln w="0">
            <a:noFill/>
          </a:ln>
        </p:spPr>
      </p:pic>
      <p:sp>
        <p:nvSpPr>
          <p:cNvPr id="105" name="TextBox 7"/>
          <p:cNvSpPr/>
          <p:nvPr/>
        </p:nvSpPr>
        <p:spPr>
          <a:xfrm>
            <a:off x="3819600" y="2987640"/>
            <a:ext cx="53244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Ricerca delle opere per categoria, </a:t>
            </a:r>
            <a:endParaRPr b="0" lang="en-US" sz="2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Ricerca delle opere per data di pubblicazione,</a:t>
            </a:r>
            <a:endParaRPr b="0" lang="en-US" sz="2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Ricerca delle opere per titolo,</a:t>
            </a:r>
            <a:endParaRPr b="0" lang="en-US" sz="2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Ricerca delle opere per autore,</a:t>
            </a:r>
            <a:endParaRPr b="0" lang="en-US" sz="2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Ricerca delle opere per tags</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368280"/>
            <a:ext cx="7920000" cy="735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Utenti Registrati</a:t>
            </a:r>
            <a:endParaRPr b="1" lang="en-US" sz="3200" spc="-1" strike="noStrike">
              <a:solidFill>
                <a:srgbClr val="ffcc99"/>
              </a:solidFill>
              <a:latin typeface="Arial Unicode MS"/>
            </a:endParaRPr>
          </a:p>
        </p:txBody>
      </p:sp>
      <p:sp>
        <p:nvSpPr>
          <p:cNvPr id="107" name="TextBox 32"/>
          <p:cNvSpPr/>
          <p:nvPr/>
        </p:nvSpPr>
        <p:spPr>
          <a:xfrm>
            <a:off x="317520" y="1197000"/>
            <a:ext cx="82119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Inserire opere</a:t>
            </a: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Effettuare ricerche sugli altri utenti per nome, cognome, citta’ di nascita, interessi.</a:t>
            </a: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Richiedere amicizia ad un altro utente, </a:t>
            </a: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Se un utente riceve una richiesta di amicizia puo’ rifiutare o accettare.</a:t>
            </a: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Vedere la lista dei suoi amici.</a:t>
            </a: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47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ＭＳ Ｐゴシック"/>
              </a:rPr>
              <a:t>Commentare le opere.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Back End</a:t>
            </a:r>
            <a:endParaRPr b="1" lang="en-US" sz="3200" spc="-1" strike="noStrike">
              <a:solidFill>
                <a:srgbClr val="ffcc99"/>
              </a:solidFill>
              <a:latin typeface="Arial Unicode MS"/>
            </a:endParaRPr>
          </a:p>
        </p:txBody>
      </p:sp>
      <p:sp>
        <p:nvSpPr>
          <p:cNvPr id="109" name=""/>
          <p:cNvSpPr txBox="1"/>
          <p:nvPr/>
        </p:nvSpPr>
        <p:spPr>
          <a:xfrm>
            <a:off x="610920" y="1628640"/>
            <a:ext cx="6762600" cy="449928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Questa parte potra’ essere acceduta </a:t>
            </a:r>
            <a:r>
              <a:rPr b="1" lang="it-IT" sz="2200" spc="-1" strike="noStrike">
                <a:solidFill>
                  <a:srgbClr val="cc0000"/>
                </a:solidFill>
                <a:latin typeface="Arial"/>
              </a:rPr>
              <a:t>solo con un utente speciale </a:t>
            </a:r>
            <a:r>
              <a:rPr b="1" i="1" lang="it-IT" sz="2200" spc="-1" strike="noStrike">
                <a:solidFill>
                  <a:srgbClr val="ffffff"/>
                </a:solidFill>
                <a:latin typeface="Arial"/>
              </a:rPr>
              <a:t>amministratore </a:t>
            </a:r>
            <a:r>
              <a:rPr b="1" lang="it-IT" sz="2200" spc="-1" strike="noStrike">
                <a:solidFill>
                  <a:srgbClr val="ffffff"/>
                </a:solidFill>
                <a:latin typeface="Arial"/>
              </a:rPr>
              <a:t>e dalla quale sarà possibile, solo per l'utente amministrator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approvare o negare la pubblicazione delle opere sottomess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gestire le registrazioni utenti, quindi deve poter inserire, modificare e cancellare i login e le informazioni sugli utenti.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ancellare i commenti degli utent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pic>
        <p:nvPicPr>
          <p:cNvPr id="110" name="Picture 3" descr=""/>
          <p:cNvPicPr/>
          <p:nvPr/>
        </p:nvPicPr>
        <p:blipFill>
          <a:blip r:embed="rId1"/>
          <a:stretch/>
        </p:blipFill>
        <p:spPr>
          <a:xfrm>
            <a:off x="7308720" y="544680"/>
            <a:ext cx="1136880" cy="195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13:57:55Z</dcterms:created>
  <dc:creator/>
  <dc:description/>
  <dc:language>en-US</dc:language>
  <cp:lastModifiedBy>Chiara Renso</cp:lastModifiedBy>
  <dcterms:modified xsi:type="dcterms:W3CDTF">2010-05-20T15:14:11Z</dcterms:modified>
  <cp:revision>220</cp:revision>
  <dc:subject/>
  <dc:title>Laboratorio di Progettazione Web</dc:title>
</cp:coreProperties>
</file>